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6DED-1B6F-4B2F-ACA5-AF8B9537D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594D-6022-4654-A372-FD494B5A4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is typical of neo-liberal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BD89-6164-4AF8-B9E7-A783CD01C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LB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s are a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envisage ourselves globally but nurture English at expense of multilingual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(Lo Bianco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8FBD-6A80-4A0A-8BB9-EDE4A6B7E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ned against CDA: anyone doing CDA or text based resear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tages of grounded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o-liber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: Federal NPL, ALLP, LFA, Victorian curriculum do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3C55-EFCD-4BA2-9F5D-07EF58589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 is a multilingual nation. With 30% of students schools speaking a LOTE a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BD6-F950-43B1-925F-88423052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FCE-3772-4874-ACCD-F1F61224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C4E-BE12-48AB-9FEA-33605E89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84A5-B4AB-436F-8C28-48D77583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58D3-2714-4A8C-874A-285D9055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6384-C2CB-4F3A-81AF-42A87286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40E0-8379-4003-B7E5-172D64A5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4B50-C7D9-4953-BE7C-C1B7EDE2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45FD-46AE-4698-9DCD-10907C19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50D2-777B-4B1A-B65A-9FA9B803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5393-A406-42C2-9135-6474566E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02B-13D9-4705-BFF8-954B96FC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1F2F-4760-4D75-8FAE-E1E9707C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C14C-BA8B-46AC-951D-05E81807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C3A1-67F6-408B-B0C8-88FD9905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FF47-115D-41B0-957E-709ED59B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81D0-72FA-45E6-8CBF-24D45799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573-0D62-4AED-B5C1-682B34E8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6389-AF2E-4E52-A0EF-367DC6B9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73C-147F-4AF9-B69F-4F30B2CD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7F4-DC71-48CE-BAD4-7126164E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A72-45F2-47F4-AF8E-D8D17A0A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EDC-FAD9-405C-BF1F-81AE2A1C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275-EAA4-4BC9-A7C4-3AE33BB8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7640"/>
              <a:chOff x="4104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5080" y="-4680"/>
                <a:ext cx="984240" cy="68306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5080" y="1693440"/>
                <a:ext cx="98424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6880" y="1285560"/>
                <a:ext cx="984240" cy="5040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6880" y="150120"/>
                <a:ext cx="984240" cy="3042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5080" y="985680"/>
                <a:ext cx="984240" cy="34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8320" y="682920"/>
                <a:ext cx="984240" cy="4312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6520" y="372960"/>
                <a:ext cx="99684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0680" y="3936600"/>
                <a:ext cx="983880" cy="4993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560" y="3537000"/>
                <a:ext cx="983880" cy="50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7160" y="2396160"/>
                <a:ext cx="984240" cy="3042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560" y="3230280"/>
                <a:ext cx="983880" cy="348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7160" y="2928600"/>
                <a:ext cx="984240" cy="4276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6800" y="2616480"/>
                <a:ext cx="996840" cy="375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68720"/>
                <a:ext cx="983880" cy="50040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1480" y="4557240"/>
                <a:ext cx="983880" cy="502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3560" y="5664240"/>
                <a:ext cx="9838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7320"/>
                <a:ext cx="345600" cy="9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98120"/>
                <a:ext cx="983880" cy="429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88880"/>
                <a:ext cx="996840" cy="375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AB2C-6FB2-45D6-A4EF-7AEDAD1C8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38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5240"/>
                <a:ext cx="990360" cy="4046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600" y="2775600"/>
                <a:ext cx="990360" cy="4042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44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F264-01C9-4D22-A084-3C7AF569C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he discourse of ESL policy: the impact of the ‘literacy crisis’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read Han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of TE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3366"/>
                </a:solidFill>
                <a:latin typeface="Arial"/>
              </a:rPr>
              <a:t>Themes arising from the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Policy style and discours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) A collaborative style and inclusive multicultural discourse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i) A directive style and discourse of economic reform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ii) An imposing style and discourse of crisis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v) A neo-liberal discourse focussed on competition and the individual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Five restriction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) Restriction of languages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i) Restriction of literacy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ii) Restriction of assessment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iv) Restriction of voice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v) Restriction of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8" descr="Table 1"/>
          <p:cNvPicPr/>
          <p:nvPr/>
        </p:nvPicPr>
        <p:blipFill>
          <a:blip r:embed="rId1"/>
          <a:stretch/>
        </p:blipFill>
        <p:spPr>
          <a:xfrm>
            <a:off x="1219320" y="-762120"/>
            <a:ext cx="7556400" cy="106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Findin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Neo-liberal state school ‘system’ in Victoria mean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Varying practices and difficult to ascertain common practices relating to provision, programs and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SL is fore-grounded, back-grounded and absent in Victorian documents, depending on their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Manifestations of </a:t>
            </a:r>
            <a:br>
              <a:rPr sz="4400"/>
            </a:b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neo-liberalis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government simultaneous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volves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pplies accountability and complianc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rketisation of education and prioritisation of choice and the individual. (Apple 200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sults in a lack of voice for minority groups and reflects a simplistic understanding of power. (Faulks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Current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teracy and language are conf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enchmarks and state-regulated tests are designed for native English speakers and disadvantage ESL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teracy crisis’ makes individuals responsible for own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countability measures abound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pt does not ensure that ESL funds are directed towards ESL program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It seems ESL Survey no longer has a compliance measure  but NAP and Multicultural Education hav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Orientation towards language planning in Victor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SL documents can show multilingualism as a resource but also exhibit other orientations as affected by mainstream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eneral documents show multilingualism as a problem: either backgrounds or omits planning for a multilingual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General docu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oLT: no E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iteracy Teaching and Learning Paper no. 9: no E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VCAA: ESL backgro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ECD: ESL backgrounded or ab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Diffused practices in Victor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lf managed schools ‘system’ mean there is great variety of practices and difficult to ascer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chools respond to markets and clients: Whose voices? Dominant discour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ESL and literac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L is not properly seen as a part of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enchmarks and tests not ESL-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teracy documents and national policy omit ESL (and langu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L documents are backgrounded and practices subservient to literacy needs which are ‘in crisi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is is re-confirmed in documents, media, schools provision, curriculum - through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009 Develop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Curriculum describes EAL/D students well in “consider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LAN assessment continues to be designed for mother tongue English speakers and applied across the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 policy broadbanded all ESL funding, including NAP – how many states will have ESL units in 201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y this research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ing ESL teacher since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ed to understand what what happening to ESL profession in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basic literacy is the focus to exclusion of other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many schools don’t provide ES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teachers and communities seem to have lost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DSC01577"/>
          <p:cNvPicPr/>
          <p:nvPr/>
        </p:nvPicPr>
        <p:blipFill>
          <a:blip r:embed="rId1"/>
          <a:stretch/>
        </p:blipFill>
        <p:spPr>
          <a:xfrm>
            <a:off x="0" y="0"/>
            <a:ext cx="3875040" cy="4862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DSC01590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DSC01589"/>
          <p:cNvPicPr/>
          <p:nvPr/>
        </p:nvPicPr>
        <p:blipFill>
          <a:blip r:embed="rId3"/>
          <a:stretch/>
        </p:blipFill>
        <p:spPr>
          <a:xfrm>
            <a:off x="0" y="4648320"/>
            <a:ext cx="2151000" cy="2868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IMG_0141"/>
          <p:cNvPicPr/>
          <p:nvPr/>
        </p:nvPicPr>
        <p:blipFill>
          <a:blip r:embed="rId4"/>
          <a:stretch/>
        </p:blipFill>
        <p:spPr>
          <a:xfrm>
            <a:off x="4495680" y="3809880"/>
            <a:ext cx="5281560" cy="396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DSC01585"/>
          <p:cNvPicPr/>
          <p:nvPr/>
        </p:nvPicPr>
        <p:blipFill>
          <a:blip r:embed="rId5"/>
          <a:stretch/>
        </p:blipFill>
        <p:spPr>
          <a:xfrm>
            <a:off x="2133720" y="4800600"/>
            <a:ext cx="2868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termined the reasons for changes as relating to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literacy crisis’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 Bianco and Freebody 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focus on economic discourse and away from the rights of multilingual Australian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has happened to ES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umed by literacy nee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 Bianco 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psed into literacy fu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 Bianco, Hammond, Michell 1998,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enc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ves,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y and how has this occurred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amined federal language and literacy from 198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ational Policy on Languages (19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ustralian Language and Literacy Policy (199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iteracy For All (199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Arial"/>
              </a:rPr>
              <a:t>Victorian docu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L Companion to CSF (200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L Companion VELS (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ESL Handbook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L Continuum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LT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lueprints (2003; 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teracy Teaching and Learning in Victorian Schools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CAA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search Metho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Discourse Ana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lommaert 2005, Fairclough 1992,1995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ed theo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laser and Strauss19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Sociolo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aulks 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o-liberalism and edu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ppl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search premi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802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olicy and planning for languages and ESL exhibit three orientations (Richard Ruiz 1984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as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as a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as a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model is most desirabl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e for a multilingual n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yne 2005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-30% of Victorian students are biling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search proces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ed key words in policy 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of comparative, contrastive and incommensur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discourse to wider socio-political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ized about discourses and related to existing literature and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ized ideas relating them clearly to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5:49:11Z</dcterms:created>
  <dc:creator>DE&amp;T user</dc:creator>
  <dc:description/>
  <dc:language>en-US</dc:language>
  <cp:lastModifiedBy>DEET</cp:lastModifiedBy>
  <cp:lastPrinted>2009-05-26T05:02:58Z</cp:lastPrinted>
  <dcterms:modified xsi:type="dcterms:W3CDTF">2009-12-02T01:05:16Z</dcterms:modified>
  <cp:revision>48</cp:revision>
  <dc:subject/>
  <dc:title>The discourse of ESL policy: the impact of the ‘literacy crisis’</dc:title>
</cp:coreProperties>
</file>